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E84-AED6-4512-AAA7-77A09747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747-62D0-4146-97C1-E9C60C0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D8B-E135-4280-ACEB-116D5224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D51-0EBA-4E3F-8C97-5FC58321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810-09E5-47D0-B3E6-9A0413D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6E5-0D62-41EE-9A03-FC939907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1FF-73BA-411D-AD32-D4F32C1D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7B3-1DDD-440F-A5C3-8971113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F67-C865-4694-8ACC-245E1DA9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2FF-AFC5-4C09-BE82-BC2A7D7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170-179A-4497-B881-7912767D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4B7-390B-4208-A4B3-E2B0BA8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F3DA-8BFE-4B8A-ADBD-ED3E469A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ental Involvement in the Safety and Security of Their Child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77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hony Gr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O/cofo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Systems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osso@verifysystem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arent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440" y="15238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arents with location-bas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where they ne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vices which they hav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near-real-time, reliable location data that is easy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to Supplement 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52352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ree tools of common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us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us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– Once in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– Daily che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Users – Multiple times per 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”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 Involvement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departments are overburdened to check on each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hour a child is missing, the likelihood for a safe return dimin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can monitor their own child and raise an alert if an unanticipated situation a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al involvement will have the ancillary benefit of combating tru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Parental Back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parents through the technology adop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cceptable form factors and non-invasive tracking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methodologies /technologies as each stage is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slowly but delibe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24:01Z</dcterms:created>
  <dc:creator>Anthony Grosso</dc:creator>
  <dc:description/>
  <dc:language>en-US</dc:language>
  <cp:lastModifiedBy>Faina Smith</cp:lastModifiedBy>
  <dcterms:modified xsi:type="dcterms:W3CDTF">2003-11-10T00:06:36Z</dcterms:modified>
  <cp:revision>2</cp:revision>
  <dc:subject/>
  <dc:title>Parental Involvement in the Safety and Security of Their Child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1636359</vt:r8>
  </property>
  <property fmtid="{D5CDD505-2E9C-101B-9397-08002B2CF9AE}" pid="3" name="_AuthorEmail">
    <vt:lpwstr>agrosso@verifysystems.com</vt:lpwstr>
  </property>
  <property fmtid="{D5CDD505-2E9C-101B-9397-08002B2CF9AE}" pid="4" name="_AuthorEmailDisplayName">
    <vt:lpwstr>Anthony Grosso</vt:lpwstr>
  </property>
  <property fmtid="{D5CDD505-2E9C-101B-9397-08002B2CF9AE}" pid="5" name="_EmailSubject">
    <vt:lpwstr>High Tech Child Safety</vt:lpwstr>
  </property>
</Properties>
</file>